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9.png" ContentType="image/png"/>
  <Override PartName="/ppt/media/image13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33C8-AB87-4673-A653-99B0849FE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D6A9-488C-446B-9D18-E2DBF8EE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7D0B-2EB6-442D-B439-A2601D642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E253-830C-4132-9794-F20B4AC92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E4BC-ECAF-4F97-A89D-279EDA768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E8C5-081F-4F1B-B385-7E26C922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79D9-16A4-4583-B8AB-1784C3DF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7CF9-C0DE-4DDD-A68C-2DFE19AD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DBEA-39CA-4255-9FB6-BFD77AAC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524A8-2C3E-4D08-A7EF-4A86AA7A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0A74-F0F0-462E-A9FD-C490A2B6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D07E-27CB-4EDA-A40E-F2773925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4BB9-BDB6-468A-AA5C-CFDBED11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9826-7C13-4546-98E1-34A861D9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8AEF-E86A-4680-B0AE-970A7337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4F0D-2F23-41AE-82DA-4C601A3C0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D77F-BC3D-4AAB-8D0E-F1176DFE8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B994-7D17-4704-8F75-DC619401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ECE4-02BA-40C4-B105-B8F95F6B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DE54-9E7C-4CF8-A8C3-879934CC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A437-536C-46AC-B215-AA7040FB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D8AB-319A-420F-AF9D-29F672C2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F87A-D53B-41A0-8A54-32A29CD5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B363-1949-437B-9087-8D4C3640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DD3C-D9A3-48DB-87BB-7467D97A39D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A57D-74A8-4E74-A839-7E413829BBBF}" type="slidenum"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uamerica.edu.co/index.php?id=67/guiametogologica" TargetMode="External"/><Relationship Id="rId2" Type="http://schemas.openxmlformats.org/officeDocument/2006/relationships/hyperlink" Target="http://orton.catie.ac.cr/cgi-hin/wxis.exe/?IsisScript=AGRISUM.xis&amp;method=post&amp;formato=2&amp;cantidad=1&amp;expresion=mfn=000235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6760" y="1285920"/>
            <a:ext cx="8572680" cy="367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0066"/>
                </a:solidFill>
                <a:latin typeface="Tahoma"/>
              </a:rPr>
              <a:t>UNIVERSIDAD DE AMERICA</a:t>
            </a:r>
            <a:br>
              <a:rPr sz="4400"/>
            </a:b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INGENIERÍA QUIMICA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s-ES_tradnl" sz="2000" spc="-1" strike="noStrike">
                <a:solidFill>
                  <a:srgbClr val="660066"/>
                </a:solidFill>
                <a:latin typeface="Tahoma"/>
              </a:rPr>
              <a:t>27 al 31 de Enero de 2014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32000" y="5013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45472"/>
                </a:solidFill>
                <a:latin typeface="Tahoma"/>
              </a:rPr>
              <a:t>SEMINARIO DE PROYECTO DE GRADO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251320" y="6237360"/>
            <a:ext cx="393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545472"/>
                </a:solidFill>
                <a:latin typeface="Tahoma"/>
              </a:rPr>
              <a:t>COMITÉ DE PROYECTO DE GRAD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545472"/>
                </a:solidFill>
                <a:latin typeface="Tahoma"/>
              </a:rPr>
              <a:t>IQ LEONARDO DE J. HERRERA G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39" name="Imagen 1" descr=""/>
          <p:cNvPicPr/>
          <p:nvPr/>
        </p:nvPicPr>
        <p:blipFill>
          <a:blip r:embed="rId1"/>
          <a:stretch/>
        </p:blipFill>
        <p:spPr>
          <a:xfrm>
            <a:off x="4214880" y="357120"/>
            <a:ext cx="73332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755640" y="333360"/>
            <a:ext cx="7929720" cy="37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0066"/>
                </a:solidFill>
                <a:latin typeface="Arial"/>
              </a:rPr>
              <a:t>¿CÓMO RECONOCER QUE ES UN TEMA PERTINENTE DE INVESTIGACION EN IQ?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545472"/>
                </a:solidFill>
                <a:latin typeface="Times New Roman"/>
              </a:rPr>
              <a:t>EXPERIMENTALE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545472"/>
                </a:solidFill>
                <a:latin typeface="Times New Roman"/>
              </a:rPr>
              <a:t>DISEÑO DE INGENIERÍ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545472"/>
                </a:solidFill>
                <a:latin typeface="Times New Roman"/>
              </a:rPr>
              <a:t>PROCESOS QUIMICO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545472"/>
                </a:solidFill>
                <a:latin typeface="Times New Roman"/>
              </a:rPr>
              <a:t>BIOTECNOLOGIA, BIOQUIMIC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545472"/>
                </a:solidFill>
                <a:latin typeface="Times New Roman"/>
              </a:rPr>
              <a:t>DESARROLLOS DE SOFTWAR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99" name="Picture 4" descr="HM00361_"/>
          <p:cNvPicPr/>
          <p:nvPr/>
        </p:nvPicPr>
        <p:blipFill>
          <a:blip r:embed="rId1"/>
          <a:stretch/>
        </p:blipFill>
        <p:spPr>
          <a:xfrm>
            <a:off x="1905120" y="4343400"/>
            <a:ext cx="2057400" cy="18572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WB01750_"/>
          <p:cNvPicPr/>
          <p:nvPr/>
        </p:nvPicPr>
        <p:blipFill>
          <a:blip r:embed="rId2"/>
          <a:stretch/>
        </p:blipFill>
        <p:spPr>
          <a:xfrm>
            <a:off x="5562720" y="2286000"/>
            <a:ext cx="2971800" cy="118908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6"/>
          <p:cNvSpPr/>
          <p:nvPr/>
        </p:nvSpPr>
        <p:spPr>
          <a:xfrm>
            <a:off x="4284720" y="4005360"/>
            <a:ext cx="4535280" cy="25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250"/>
              </a:spcBef>
              <a:buClr>
                <a:srgbClr val="54547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545472"/>
                </a:solidFill>
                <a:latin typeface="Times New Roman"/>
              </a:rPr>
              <a:t>CONTROL DE PROCESO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250"/>
              </a:spcBef>
              <a:buClr>
                <a:srgbClr val="54547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545472"/>
                </a:solidFill>
                <a:latin typeface="Times New Roman"/>
              </a:rPr>
              <a:t>NORMAS DE CALIDAD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250"/>
              </a:spcBef>
              <a:buClr>
                <a:srgbClr val="54547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545472"/>
                </a:solidFill>
                <a:latin typeface="Times New Roman"/>
              </a:rPr>
              <a:t>MEDIO AMBIENT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250"/>
              </a:spcBef>
              <a:buClr>
                <a:srgbClr val="54547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545472"/>
                </a:solidFill>
                <a:latin typeface="Times New Roman"/>
              </a:rPr>
              <a:t>IMPACTO INDUSTRIAL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250"/>
              </a:spcBef>
              <a:buClr>
                <a:srgbClr val="54547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545472"/>
                </a:solidFill>
                <a:latin typeface="Times New Roman"/>
              </a:rPr>
              <a:t>IMPACTOS  SOCIALE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02" name="Imagen 1" descr=""/>
          <p:cNvPicPr/>
          <p:nvPr/>
        </p:nvPicPr>
        <p:blipFill>
          <a:blip r:embed="rId3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86920" y="304560"/>
            <a:ext cx="6913800" cy="151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ÁREAS DE INGERENCIA</a:t>
            </a:r>
            <a:br>
              <a:rPr sz="4400"/>
            </a:br>
            <a:r>
              <a:rPr b="0" lang="es-ES_tradnl" sz="2800" spc="-1" strike="noStrike">
                <a:solidFill>
                  <a:srgbClr val="660066"/>
                </a:solidFill>
                <a:latin typeface="Tahoma"/>
              </a:rPr>
              <a:t>(Algunos posibles campos de acción para desarrollar Proyectos de IQ):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SzPct val="1140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545472"/>
                </a:solidFill>
                <a:latin typeface="Tahoma"/>
              </a:rPr>
              <a:t>PROCESOS </a:t>
            </a:r>
            <a:r>
              <a:rPr b="0" lang="es-ES_tradnl" sz="2600" spc="-1" strike="noStrike">
                <a:solidFill>
                  <a:srgbClr val="545472"/>
                </a:solidFill>
                <a:latin typeface="Tahoma"/>
              </a:rPr>
              <a:t>(Diagnósticos, Operación, Control, Sustitución de recursos, Mejoramiento, Normalización, Auditorías...).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SzPct val="1140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545472"/>
                </a:solidFill>
                <a:latin typeface="Tahoma"/>
              </a:rPr>
              <a:t>GESTIÓN DE CALIDAD </a:t>
            </a:r>
            <a:r>
              <a:rPr b="0" lang="es-ES_tradnl" sz="2600" spc="-1" strike="noStrike">
                <a:solidFill>
                  <a:srgbClr val="545472"/>
                </a:solidFill>
                <a:latin typeface="Tahoma"/>
              </a:rPr>
              <a:t>(Diagnósticos,Mejoramiento, Documentación, Auditorías, Sistemas, ISO 9000,...).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SzPct val="1140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545472"/>
                </a:solidFill>
                <a:latin typeface="Tahoma"/>
              </a:rPr>
              <a:t>APLICACIONES ESPECÍFICAS </a:t>
            </a:r>
            <a:r>
              <a:rPr b="0" lang="es-ES_tradnl" sz="2600" spc="-1" strike="noStrike">
                <a:solidFill>
                  <a:srgbClr val="545472"/>
                </a:solidFill>
                <a:latin typeface="Tahoma"/>
              </a:rPr>
              <a:t>(por ejemplo, Diseño de paquetes de Software,...).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SzPct val="1140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545472"/>
                </a:solidFill>
                <a:latin typeface="Tahoma"/>
              </a:rPr>
              <a:t>BPM, HAZZAP, HCCP...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05" name="Imagen 1" descr=""/>
          <p:cNvPicPr/>
          <p:nvPr/>
        </p:nvPicPr>
        <p:blipFill>
          <a:blip r:embed="rId5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43040" y="213840"/>
            <a:ext cx="5973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0066"/>
                </a:solidFill>
                <a:latin typeface="Tahoma"/>
              </a:rPr>
              <a:t>FUENTE DE TEMAS DE PROYECTO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42960" y="149976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Tahoma"/>
              </a:rPr>
              <a:t>Problemas del entorno industrial e institucional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Tahoma"/>
              </a:rPr>
              <a:t>Mejoramiento de situaciones actuales en la industria o instituciones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Tahoma"/>
              </a:rPr>
              <a:t>Continuación de investigaciones anteriores.(trabajos de grado)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Tahoma"/>
              </a:rPr>
              <a:t>Consultas a profesores y profesionales de la industria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Tahoma"/>
              </a:rPr>
              <a:t>Consultas con el departamento de Investigación</a:t>
            </a:r>
            <a:r>
              <a:rPr b="1" lang="es-MX" sz="24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08" name="Imagen 1" descr=""/>
          <p:cNvPicPr/>
          <p:nvPr/>
        </p:nvPicPr>
        <p:blipFill>
          <a:blip r:embed="rId6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439120" cy="101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EL PROYECTO DE GRADO</a:t>
            </a:r>
            <a:br>
              <a:rPr sz="3600"/>
            </a:b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ES UN PROCES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3124080" y="2971800"/>
            <a:ext cx="2895840" cy="22096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PROYECT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D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INVESTIG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1" name="Line 4"/>
          <p:cNvSpPr/>
          <p:nvPr/>
        </p:nvSpPr>
        <p:spPr>
          <a:xfrm>
            <a:off x="6019920" y="3886200"/>
            <a:ext cx="761760" cy="0"/>
          </a:xfrm>
          <a:prstGeom prst="line">
            <a:avLst/>
          </a:prstGeom>
          <a:ln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Line 5"/>
          <p:cNvSpPr/>
          <p:nvPr/>
        </p:nvSpPr>
        <p:spPr>
          <a:xfrm>
            <a:off x="2133720" y="3429000"/>
            <a:ext cx="990360" cy="0"/>
          </a:xfrm>
          <a:prstGeom prst="line">
            <a:avLst/>
          </a:prstGeom>
          <a:ln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Line 6"/>
          <p:cNvSpPr/>
          <p:nvPr/>
        </p:nvSpPr>
        <p:spPr>
          <a:xfrm>
            <a:off x="2133720" y="4038480"/>
            <a:ext cx="914400" cy="0"/>
          </a:xfrm>
          <a:prstGeom prst="line">
            <a:avLst/>
          </a:prstGeom>
          <a:ln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Line 7"/>
          <p:cNvSpPr/>
          <p:nvPr/>
        </p:nvSpPr>
        <p:spPr>
          <a:xfrm>
            <a:off x="3429000" y="2057400"/>
            <a:ext cx="0" cy="914400"/>
          </a:xfrm>
          <a:prstGeom prst="line">
            <a:avLst/>
          </a:prstGeom>
          <a:ln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Line 8"/>
          <p:cNvSpPr/>
          <p:nvPr/>
        </p:nvSpPr>
        <p:spPr>
          <a:xfrm>
            <a:off x="4572000" y="2133720"/>
            <a:ext cx="0" cy="838080"/>
          </a:xfrm>
          <a:prstGeom prst="line">
            <a:avLst/>
          </a:prstGeom>
          <a:ln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Line 9"/>
          <p:cNvSpPr/>
          <p:nvPr/>
        </p:nvSpPr>
        <p:spPr>
          <a:xfrm>
            <a:off x="5562720" y="2057400"/>
            <a:ext cx="0" cy="914400"/>
          </a:xfrm>
          <a:prstGeom prst="line">
            <a:avLst/>
          </a:prstGeom>
          <a:ln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Line 10"/>
          <p:cNvSpPr/>
          <p:nvPr/>
        </p:nvSpPr>
        <p:spPr>
          <a:xfrm>
            <a:off x="2209680" y="4724280"/>
            <a:ext cx="838440" cy="0"/>
          </a:xfrm>
          <a:prstGeom prst="line">
            <a:avLst/>
          </a:prstGeom>
          <a:ln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8" name="Line 11"/>
          <p:cNvSpPr/>
          <p:nvPr/>
        </p:nvSpPr>
        <p:spPr>
          <a:xfrm flipV="1">
            <a:off x="3809880" y="5181480"/>
            <a:ext cx="0" cy="609840"/>
          </a:xfrm>
          <a:prstGeom prst="line">
            <a:avLst/>
          </a:prstGeom>
          <a:ln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Line 12"/>
          <p:cNvSpPr/>
          <p:nvPr/>
        </p:nvSpPr>
        <p:spPr>
          <a:xfrm flipV="1">
            <a:off x="5257800" y="5181480"/>
            <a:ext cx="0" cy="609840"/>
          </a:xfrm>
          <a:prstGeom prst="line">
            <a:avLst/>
          </a:prstGeom>
          <a:ln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6918840" y="3429000"/>
            <a:ext cx="192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TITULO D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INGENIER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QUÍMIC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486360" y="182880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Proyectista(s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2971800" y="2057400"/>
            <a:ext cx="457200" cy="0"/>
          </a:xfrm>
          <a:prstGeom prst="line">
            <a:avLst/>
          </a:prstGeom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3621960" y="149868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Verdana"/>
              </a:rPr>
              <a:t>COMITÉ D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Verdana"/>
              </a:rPr>
              <a:t>PROYECTO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Line 17"/>
          <p:cNvSpPr/>
          <p:nvPr/>
        </p:nvSpPr>
        <p:spPr>
          <a:xfrm>
            <a:off x="5562720" y="2057400"/>
            <a:ext cx="761760" cy="0"/>
          </a:xfrm>
          <a:prstGeom prst="line">
            <a:avLst/>
          </a:prstGeom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6477120" y="190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6590520" y="1860480"/>
            <a:ext cx="203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Orientado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Jurados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Evaluador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2130840" y="5786280"/>
            <a:ext cx="211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Directo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Del proyect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8" name="Text Box 21"/>
          <p:cNvSpPr/>
          <p:nvPr/>
        </p:nvSpPr>
        <p:spPr>
          <a:xfrm>
            <a:off x="4669560" y="579132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Codirecto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Text Box 22"/>
          <p:cNvSpPr/>
          <p:nvPr/>
        </p:nvSpPr>
        <p:spPr>
          <a:xfrm>
            <a:off x="311040" y="3429000"/>
            <a:ext cx="192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Empresa o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Institución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Sponso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0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9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9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8436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545472"/>
                </a:solidFill>
                <a:latin typeface="Tahoma"/>
              </a:rPr>
              <a:t>TRAER PARA LA PRIMERA SEMANA DE CLASE DE SEMINARIO VARIOS TEMAS EN BLANCO Y NEGRO PARA DISCUSIÓN EN CLASE.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s-MX" sz="4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s-MX" sz="4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s-MX" sz="4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s-MX" sz="4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s-MX" sz="4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545472"/>
                </a:solidFill>
                <a:latin typeface="Tahoma"/>
              </a:rPr>
              <a:t>CPG IQ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32" name="Imagen 1" descr=""/>
          <p:cNvPicPr/>
          <p:nvPr/>
        </p:nvPicPr>
        <p:blipFill>
          <a:blip r:embed="rId2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  <p:sp>
        <p:nvSpPr>
          <p:cNvPr id="233" name="5 Rectángulo"/>
          <p:cNvSpPr/>
          <p:nvPr/>
        </p:nvSpPr>
        <p:spPr>
          <a:xfrm>
            <a:off x="3491640" y="0"/>
            <a:ext cx="24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545472"/>
                </a:solidFill>
                <a:latin typeface="Times New Roman"/>
              </a:rPr>
              <a:t>TAREA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642960" y="856800"/>
            <a:ext cx="810432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00"/>
              </a:spcBef>
              <a:buClr>
                <a:srgbClr val="54547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545472"/>
                </a:solidFill>
                <a:latin typeface="Tahoma"/>
              </a:rPr>
              <a:t>Ramirez, A. (2009). </a:t>
            </a:r>
            <a:r>
              <a:rPr b="0" i="1" lang="es-MX" sz="1600" spc="-1" strike="noStrike">
                <a:solidFill>
                  <a:srgbClr val="545472"/>
                </a:solidFill>
                <a:latin typeface="Tahoma"/>
              </a:rPr>
              <a:t>METODOLOGIA DE LA INVESTIGACION</a:t>
            </a:r>
            <a:r>
              <a:rPr b="0" lang="es-MX" sz="1600" spc="-1" strike="noStrike">
                <a:solidFill>
                  <a:srgbClr val="545472"/>
                </a:solidFill>
                <a:latin typeface="Tahoma"/>
              </a:rPr>
              <a:t>. Editorial Universidad javeriana. Bogota, Colombia.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2844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284400" indent="-284400">
              <a:spcBef>
                <a:spcPts val="400"/>
              </a:spcBef>
              <a:buClr>
                <a:srgbClr val="54547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545472"/>
                </a:solidFill>
                <a:latin typeface="Tahoma"/>
              </a:rPr>
              <a:t>Saravia, M. (2010). </a:t>
            </a:r>
            <a:r>
              <a:rPr b="0" i="1" lang="es-MX" sz="1600" spc="-1" strike="noStrike">
                <a:solidFill>
                  <a:srgbClr val="545472"/>
                </a:solidFill>
                <a:latin typeface="Tahoma"/>
              </a:rPr>
              <a:t>METODOLOGIA DE LA INVESTIGACIONPROBLEMAS DE INGENIERIA</a:t>
            </a:r>
            <a:r>
              <a:rPr b="0" lang="es-MX" sz="1600" spc="-1" strike="noStrike">
                <a:solidFill>
                  <a:srgbClr val="545472"/>
                </a:solidFill>
                <a:latin typeface="Tahoma"/>
              </a:rPr>
              <a:t>. Bueno Aires. Argentina. Editoriales Manantial.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28440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545472"/>
                </a:solidFill>
                <a:latin typeface="Tahoma"/>
              </a:rPr>
              <a:t>CIBERGRAFIA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8440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284400" indent="-284400" algn="just">
              <a:spcBef>
                <a:spcPts val="400"/>
              </a:spcBef>
              <a:buClr>
                <a:srgbClr val="54547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545472"/>
                </a:solidFill>
                <a:latin typeface="Tahoma"/>
              </a:rPr>
              <a:t>GUIA METODOLOGICA PARA ELABORACION DE PROYECTOS DE GRADO.</a:t>
            </a:r>
            <a:r>
              <a:rPr b="1" lang="es-ES" sz="16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545472"/>
                </a:solidFill>
                <a:latin typeface="Tahoma"/>
              </a:rPr>
              <a:t>Facultad de Ingenierías Universidad de América. (2010). Recuperado el 22 Abril de 2011, de  </a:t>
            </a:r>
            <a:r>
              <a:rPr b="0" lang="es-ES" sz="1600" spc="-1" strike="noStrike" u="sng">
                <a:solidFill>
                  <a:srgbClr val="9595ff"/>
                </a:solidFill>
                <a:uFillTx/>
                <a:latin typeface="Tahoma"/>
                <a:hlinkClick r:id="rId1"/>
              </a:rPr>
              <a:t>http://www.uamerica.edu.co/index.php?id=67/guiametogologica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28440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284400" indent="-284400">
              <a:spcBef>
                <a:spcPts val="400"/>
              </a:spcBef>
              <a:buClr>
                <a:srgbClr val="54547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545472"/>
                </a:solidFill>
                <a:latin typeface="Tahoma"/>
              </a:rPr>
              <a:t>LOS PROBLEMAS EN INGENIERIA. </a:t>
            </a:r>
            <a:r>
              <a:rPr b="0" lang="es-MX" sz="1600" spc="-1" strike="noStrike">
                <a:solidFill>
                  <a:srgbClr val="545472"/>
                </a:solidFill>
                <a:latin typeface="Tahoma"/>
              </a:rPr>
              <a:t>Hernandez, R. (2001) Recuperado en 22 de mayo de 2011, de  </a:t>
            </a:r>
            <a:r>
              <a:rPr b="0" lang="es-ES" sz="1600" spc="-1" strike="noStrike" u="sng">
                <a:solidFill>
                  <a:srgbClr val="9595ff"/>
                </a:solidFill>
                <a:uFillTx/>
                <a:latin typeface="Tahoma"/>
                <a:hlinkClick r:id="rId2"/>
              </a:rPr>
              <a:t>http://</a:t>
            </a:r>
            <a:r>
              <a:rPr b="0" i="1" lang="es-CO" sz="1600" spc="-1" strike="noStrike">
                <a:solidFill>
                  <a:srgbClr val="545472"/>
                </a:solidFill>
                <a:latin typeface="Tahoma"/>
              </a:rPr>
              <a:t>www.ie.itcr.ac.cr/.../El%20</a:t>
            </a:r>
            <a:r>
              <a:rPr b="1" i="1" lang="es-CO" sz="1600" spc="-1" strike="noStrike">
                <a:solidFill>
                  <a:srgbClr val="545472"/>
                </a:solidFill>
                <a:latin typeface="Tahoma"/>
              </a:rPr>
              <a:t>Problema</a:t>
            </a:r>
            <a:r>
              <a:rPr b="0" i="1" lang="es-CO" sz="1600" spc="-1" strike="noStrike">
                <a:solidFill>
                  <a:srgbClr val="545472"/>
                </a:solidFill>
                <a:latin typeface="Tahoma"/>
              </a:rPr>
              <a:t>%20en%20</a:t>
            </a:r>
            <a:r>
              <a:rPr b="1" i="1" lang="es-CO" sz="1600" spc="-1" strike="noStrike">
                <a:solidFill>
                  <a:srgbClr val="545472"/>
                </a:solidFill>
                <a:latin typeface="Tahoma"/>
              </a:rPr>
              <a:t>ingeniería</a:t>
            </a:r>
            <a:r>
              <a:rPr b="0" i="1" lang="es-CO" sz="1600" spc="-1" strike="noStrike">
                <a:solidFill>
                  <a:srgbClr val="545472"/>
                </a:solidFill>
                <a:latin typeface="Tahoma"/>
              </a:rPr>
              <a:t>%20No.3.ppt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284400" indent="-284400" algn="just">
              <a:spcBef>
                <a:spcPts val="400"/>
              </a:spcBef>
              <a:buSzPct val="1854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545472"/>
                </a:solidFill>
                <a:latin typeface="Tahoma"/>
              </a:rPr>
              <a:t>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284400" indent="-284400" algn="just">
              <a:spcBef>
                <a:spcPts val="400"/>
              </a:spcBef>
              <a:buClr>
                <a:srgbClr val="54547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545472"/>
                </a:solidFill>
                <a:latin typeface="Tahoma"/>
              </a:rPr>
              <a:t>IDENTIFICACION DE PROBLEMAS EN LA INDUSTRIA.</a:t>
            </a:r>
            <a:r>
              <a:rPr b="1" lang="es-ES" sz="16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545472"/>
                </a:solidFill>
                <a:latin typeface="Tahoma"/>
              </a:rPr>
              <a:t>Puis, D. (2005). Instituto Tecnológico y de Estudios Superiores de Monterrey. Recuperado el 12 Mayo de 2011, de  </a:t>
            </a:r>
            <a:r>
              <a:rPr b="0" lang="es-ES" sz="1600" spc="-1" strike="noStrike" u="sng">
                <a:solidFill>
                  <a:srgbClr val="545472"/>
                </a:solidFill>
                <a:uFillTx/>
                <a:latin typeface="Tahoma"/>
              </a:rPr>
              <a:t>http://www.aie.cl/files/file/comites/ca/articulos/diciembre-05.pdf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284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es-ES" sz="36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es-ES" sz="36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es-ES" sz="36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es-ES" sz="36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35" name="Imagen 1" descr=""/>
          <p:cNvPicPr/>
          <p:nvPr/>
        </p:nvPicPr>
        <p:blipFill>
          <a:blip r:embed="rId4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  <p:sp>
        <p:nvSpPr>
          <p:cNvPr id="236" name="5 Rectángulo"/>
          <p:cNvSpPr/>
          <p:nvPr/>
        </p:nvSpPr>
        <p:spPr>
          <a:xfrm>
            <a:off x="2737440" y="214200"/>
            <a:ext cx="398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545472"/>
                </a:solidFill>
                <a:latin typeface="Times New Roman"/>
              </a:rPr>
              <a:t>BIBLIOGRAFIA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23640" y="333360"/>
            <a:ext cx="5327640" cy="15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660066"/>
                </a:solidFill>
                <a:latin typeface="Tahoma"/>
              </a:rPr>
              <a:t>FIN DE LA PRESENTACIÓN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8" name="Picture 3" descr="J0186164"/>
          <p:cNvPicPr/>
          <p:nvPr/>
        </p:nvPicPr>
        <p:blipFill>
          <a:blip r:embed="rId1"/>
          <a:stretch/>
        </p:blipFill>
        <p:spPr>
          <a:xfrm>
            <a:off x="990720" y="2666880"/>
            <a:ext cx="2209680" cy="381024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4"/>
          <p:cNvSpPr/>
          <p:nvPr/>
        </p:nvSpPr>
        <p:spPr>
          <a:xfrm>
            <a:off x="4038480" y="2133720"/>
            <a:ext cx="4419720" cy="1600200"/>
          </a:xfrm>
          <a:prstGeom prst="wedgeRoundRectCallout">
            <a:avLst>
              <a:gd name="adj1" fmla="val -66162"/>
              <a:gd name="adj2" fmla="val 39087"/>
              <a:gd name="adj3" fmla="val 16667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Arial"/>
              </a:rPr>
              <a:t>¡ Muchas GRACIAS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Arial"/>
              </a:rPr>
              <a:t>por la aten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Arial"/>
              </a:rPr>
              <a:t>y por su tiempo !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85880" y="1714680"/>
            <a:ext cx="7696080" cy="387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1. PRESENTACION DEL SYLLABVS DE LA ASIGNATURA.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2. ELEMENTOS A TENER EN CUENTA PARA EL DESARROLLO DEL PROYECTO DE GRADO (ING. LEONARDO HERRERA)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3. PRESENTACION DE LOS INTEGRANTES DEL COMITE.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4. CRONOGRAMA DE ACTIVIDADES DEL SEMINARIO (ING. DUQUEIRO BONILLA)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5. PRESENTACION DE LOS TEMAS POR PARTE DE LOS ESTUDIANTES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41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1285920" y="142920"/>
            <a:ext cx="71215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0066"/>
                </a:solidFill>
                <a:latin typeface="Tahoma"/>
              </a:rPr>
              <a:t>OBJETIVOS DE LA REUNION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85880" y="2571840"/>
            <a:ext cx="7696080" cy="4084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1.El trabajo de grado es una aplicación teórico -practica (investigación) de los conocimientos , destrezas  y competencias adquiridas durante el proceso de formación profesional.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2. Que sirve para el análisis de casos de investigación, solución de problemas de la industria y aprovechamiento de oportunidades.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3. Es una oportunidad para que los estudiantes evalúen los conocimientos adquiridos y los pongas en práctica.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4. Es una de las modalidades para optar por el título profesional de los diferentes programas ofrecidos por la Universidad.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5. Orientado por el comité de proyectos de grado.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6. Desarrollado bajo las normas de la Institición y de las normas ICONTEC  vigentes.</a:t>
            </a:r>
            <a:br>
              <a:rPr sz="1800"/>
            </a:br>
            <a:endParaRPr b="0" lang="en-US" sz="1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44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2"/>
          <p:cNvSpPr/>
          <p:nvPr/>
        </p:nvSpPr>
        <p:spPr>
          <a:xfrm>
            <a:off x="1285920" y="142920"/>
            <a:ext cx="71215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0066"/>
                </a:solidFill>
                <a:latin typeface="Tahoma"/>
              </a:rPr>
              <a:t>DEFINICION DE PROYECTO DE GRADO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85520" y="2500200"/>
            <a:ext cx="7767720" cy="2857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1. Órgano colegiado constituido por docentes y profesionales idóneos y con la experticia para orientar y dirigir las diferentes etapas del proceso investigativo del proyecto de grado.</a:t>
            </a:r>
            <a:br>
              <a:rPr sz="1800"/>
            </a:b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1800"/>
            </a:b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2. Que propende por el cumplimiento y desarrollo de los objetivos de las asignaturas de seminario de proyecto de grado y trabajo de Grado.</a:t>
            </a:r>
            <a:br>
              <a:rPr sz="1800"/>
            </a:b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47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2"/>
          <p:cNvSpPr/>
          <p:nvPr/>
        </p:nvSpPr>
        <p:spPr>
          <a:xfrm>
            <a:off x="1285920" y="142920"/>
            <a:ext cx="71215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0066"/>
                </a:solidFill>
                <a:latin typeface="Tahoma"/>
              </a:rPr>
              <a:t>DEFINICION DE COMITÉ DE PROYECTOS DE GRADO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35280" y="836640"/>
            <a:ext cx="654984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0066"/>
                </a:solidFill>
                <a:latin typeface="Tahoma"/>
              </a:rPr>
              <a:t>ETAPAS DEL PROYECTO DE GRAD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928800" y="2322360"/>
            <a:ext cx="7358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54547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Times New Roman"/>
              </a:rPr>
              <a:t>PLANEACION: SEMINARIO DE PROYECTO DE GRADO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Times New Roman"/>
              </a:rPr>
              <a:t>2.   EJECUCION: TRABAJO DE GRAD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Times New Roman"/>
              </a:rPr>
              <a:t>3.  ENTREGRA: SUSTENTACION, CORRECCIONES Y GRADUACION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1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13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EL PROYECTO DE GRADO COMO UN PROCESO TECNICO-ADMINISTRATIVO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457200" y="1981080"/>
            <a:ext cx="8153280" cy="449604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3429000" y="21337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3352680" y="2209680"/>
            <a:ext cx="4800600" cy="457200"/>
          </a:xfrm>
          <a:prstGeom prst="rect">
            <a:avLst/>
          </a:prstGeom>
          <a:solidFill>
            <a:srgbClr val="5454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7ccd9"/>
                </a:solidFill>
                <a:latin typeface="Verdana"/>
              </a:rPr>
              <a:t>CONCEPCIÓN DE LA IDE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3352680" y="2971800"/>
            <a:ext cx="4800600" cy="457200"/>
          </a:xfrm>
          <a:prstGeom prst="rect">
            <a:avLst/>
          </a:prstGeom>
          <a:solidFill>
            <a:srgbClr val="5454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7ccd9"/>
                </a:solidFill>
                <a:latin typeface="Verdana"/>
              </a:rPr>
              <a:t>DEFINICIÓN DEL TEM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352680" y="3886200"/>
            <a:ext cx="4800600" cy="457200"/>
          </a:xfrm>
          <a:prstGeom prst="rect">
            <a:avLst/>
          </a:prstGeom>
          <a:solidFill>
            <a:srgbClr val="5454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7ccd9"/>
                </a:solidFill>
                <a:latin typeface="Verdana"/>
              </a:rPr>
              <a:t>ESTRUCTURAR PROPUEST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3352680" y="4724280"/>
            <a:ext cx="4800600" cy="457200"/>
          </a:xfrm>
          <a:prstGeom prst="rect">
            <a:avLst/>
          </a:prstGeom>
          <a:solidFill>
            <a:srgbClr val="5454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7ccd9"/>
                </a:solidFill>
                <a:latin typeface="Verdana"/>
              </a:rPr>
              <a:t>ELABORAR ANTEPROYECT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3352680" y="5638680"/>
            <a:ext cx="4800600" cy="457200"/>
          </a:xfrm>
          <a:prstGeom prst="rect">
            <a:avLst/>
          </a:prstGeom>
          <a:solidFill>
            <a:srgbClr val="5454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7ccd9"/>
                </a:solidFill>
                <a:latin typeface="Verdana"/>
              </a:rPr>
              <a:t>EJECUCIÓN DEL PROYECT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Line 10"/>
          <p:cNvSpPr/>
          <p:nvPr/>
        </p:nvSpPr>
        <p:spPr>
          <a:xfrm>
            <a:off x="5943600" y="2666880"/>
            <a:ext cx="0" cy="30492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Line 11"/>
          <p:cNvSpPr/>
          <p:nvPr/>
        </p:nvSpPr>
        <p:spPr>
          <a:xfrm>
            <a:off x="5943600" y="3429000"/>
            <a:ext cx="0" cy="45720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Line 12"/>
          <p:cNvSpPr/>
          <p:nvPr/>
        </p:nvSpPr>
        <p:spPr>
          <a:xfrm>
            <a:off x="5943600" y="4343400"/>
            <a:ext cx="0" cy="38088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Line 13"/>
          <p:cNvSpPr/>
          <p:nvPr/>
        </p:nvSpPr>
        <p:spPr>
          <a:xfrm>
            <a:off x="5943600" y="5181480"/>
            <a:ext cx="0" cy="45720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Line 14"/>
          <p:cNvSpPr/>
          <p:nvPr/>
        </p:nvSpPr>
        <p:spPr>
          <a:xfrm>
            <a:off x="5943600" y="6095880"/>
            <a:ext cx="0" cy="53352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Line 15"/>
          <p:cNvSpPr/>
          <p:nvPr/>
        </p:nvSpPr>
        <p:spPr>
          <a:xfrm flipH="1">
            <a:off x="2819160" y="5867280"/>
            <a:ext cx="533160" cy="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2819520" y="2438280"/>
            <a:ext cx="533160" cy="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Line 17"/>
          <p:cNvSpPr/>
          <p:nvPr/>
        </p:nvSpPr>
        <p:spPr>
          <a:xfrm flipV="1">
            <a:off x="2819520" y="2437920"/>
            <a:ext cx="0" cy="34290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2819520" y="4952880"/>
            <a:ext cx="533160" cy="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2819520" y="4114800"/>
            <a:ext cx="533160" cy="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2819520" y="3200400"/>
            <a:ext cx="533160" cy="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5943600" y="1905120"/>
            <a:ext cx="0" cy="30456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Text Box 22"/>
          <p:cNvSpPr/>
          <p:nvPr/>
        </p:nvSpPr>
        <p:spPr>
          <a:xfrm>
            <a:off x="380880" y="34290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545472"/>
                </a:solidFill>
                <a:latin typeface="Verdana"/>
              </a:rPr>
              <a:t>Planeación y Programación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Text Box 23"/>
          <p:cNvSpPr/>
          <p:nvPr/>
        </p:nvSpPr>
        <p:spPr>
          <a:xfrm>
            <a:off x="743040" y="5283360"/>
            <a:ext cx="162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545472"/>
                </a:solidFill>
                <a:latin typeface="Verdana"/>
              </a:rPr>
              <a:t>Desarroll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545472"/>
                </a:solidFill>
                <a:latin typeface="Verdana"/>
              </a:rPr>
              <a:t>y Control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Line 24"/>
          <p:cNvSpPr/>
          <p:nvPr/>
        </p:nvSpPr>
        <p:spPr>
          <a:xfrm>
            <a:off x="914400" y="5105520"/>
            <a:ext cx="114300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Line 25"/>
          <p:cNvSpPr/>
          <p:nvPr/>
        </p:nvSpPr>
        <p:spPr>
          <a:xfrm>
            <a:off x="838080" y="6324480"/>
            <a:ext cx="121932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Line 26"/>
          <p:cNvSpPr/>
          <p:nvPr/>
        </p:nvSpPr>
        <p:spPr>
          <a:xfrm>
            <a:off x="914400" y="2133720"/>
            <a:ext cx="106668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Line 27"/>
          <p:cNvSpPr/>
          <p:nvPr/>
        </p:nvSpPr>
        <p:spPr>
          <a:xfrm flipV="1">
            <a:off x="1523880" y="5105520"/>
            <a:ext cx="0" cy="30456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Line 28"/>
          <p:cNvSpPr/>
          <p:nvPr/>
        </p:nvSpPr>
        <p:spPr>
          <a:xfrm>
            <a:off x="1523880" y="6019920"/>
            <a:ext cx="0" cy="30456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Line 29"/>
          <p:cNvSpPr/>
          <p:nvPr/>
        </p:nvSpPr>
        <p:spPr>
          <a:xfrm flipV="1">
            <a:off x="1523880" y="2133720"/>
            <a:ext cx="0" cy="129528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Line 30"/>
          <p:cNvSpPr/>
          <p:nvPr/>
        </p:nvSpPr>
        <p:spPr>
          <a:xfrm>
            <a:off x="1523880" y="4267080"/>
            <a:ext cx="0" cy="76212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81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03280" y="260280"/>
            <a:ext cx="69184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0066"/>
                </a:solidFill>
                <a:latin typeface="Tahoma"/>
              </a:rPr>
              <a:t>VALORES AGREGADO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83" name="Picture 3" descr="IDEA"/>
          <p:cNvPicPr/>
          <p:nvPr/>
        </p:nvPicPr>
        <p:blipFill>
          <a:blip r:embed="rId1"/>
          <a:stretch/>
        </p:blipFill>
        <p:spPr>
          <a:xfrm>
            <a:off x="1752480" y="2666880"/>
            <a:ext cx="1295640" cy="39355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3419640" y="2590920"/>
            <a:ext cx="5724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Times New Roman"/>
              </a:rPr>
              <a:t>¿Qué me gusta?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Times New Roman"/>
              </a:rPr>
              <a:t>¿Qué quiero hacer?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Times New Roman"/>
              </a:rPr>
              <a:t>¿En qué quiero destacarme?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Times New Roman"/>
              </a:rPr>
              <a:t>¿Qué fortalezas tengo?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Times New Roman"/>
              </a:rPr>
              <a:t>¿Qué recursos tengo disponibles?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Times New Roman"/>
              </a:rPr>
              <a:t>¿Cuál es la disciplina profesional preferida?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Times New Roman"/>
              </a:rPr>
              <a:t>¿Lo desarrollo </a:t>
            </a:r>
            <a:r>
              <a:rPr b="1" i="1" lang="es-ES_tradnl" sz="2000" spc="-1" strike="noStrike">
                <a:solidFill>
                  <a:srgbClr val="545472"/>
                </a:solidFill>
                <a:latin typeface="Times New Roman"/>
              </a:rPr>
              <a:t>sólo</a:t>
            </a:r>
            <a:r>
              <a:rPr b="1" lang="es-ES_tradnl" sz="2000" spc="-1" strike="noStrike">
                <a:solidFill>
                  <a:srgbClr val="545472"/>
                </a:solidFill>
                <a:latin typeface="Times New Roman"/>
              </a:rPr>
              <a:t> o </a:t>
            </a:r>
            <a:r>
              <a:rPr b="1" i="1" lang="es-ES_tradnl" sz="2000" spc="-1" strike="noStrike">
                <a:solidFill>
                  <a:srgbClr val="545472"/>
                </a:solidFill>
                <a:latin typeface="Times New Roman"/>
              </a:rPr>
              <a:t>en compañía</a:t>
            </a:r>
            <a:r>
              <a:rPr b="1" lang="es-ES_tradnl" sz="2000" spc="-1" strike="noStrike">
                <a:solidFill>
                  <a:srgbClr val="545472"/>
                </a:solidFill>
                <a:latin typeface="Times New Roman"/>
              </a:rPr>
              <a:t>? (Con quién?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914400" y="106668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545472"/>
                </a:solidFill>
                <a:latin typeface="Times New Roman"/>
              </a:rPr>
              <a:t>Es una valiosa oportunidad para profundizar en los temas y aspectos de formación profesional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545472"/>
                </a:solidFill>
                <a:latin typeface="Times New Roman"/>
              </a:rPr>
              <a:t>Es la carta de presentación para ingresar al mundo laboral y profesional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86" name="Imagen 1" descr=""/>
          <p:cNvPicPr/>
          <p:nvPr/>
        </p:nvPicPr>
        <p:blipFill>
          <a:blip r:embed="rId2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0066"/>
                </a:solidFill>
                <a:latin typeface="Tahoma"/>
              </a:rPr>
              <a:t>MANERAS DE REALIZAR UN PROYEC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8" name="Oval 3"/>
          <p:cNvSpPr/>
          <p:nvPr/>
        </p:nvSpPr>
        <p:spPr>
          <a:xfrm>
            <a:off x="6516720" y="1989000"/>
            <a:ext cx="2133720" cy="20574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ALIZAR U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XCELENTE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ROYECT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9" name="Oval 4"/>
          <p:cNvSpPr/>
          <p:nvPr/>
        </p:nvSpPr>
        <p:spPr>
          <a:xfrm>
            <a:off x="611280" y="1989000"/>
            <a:ext cx="2133360" cy="20574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ALIZAR</a:t>
            </a:r>
            <a:r>
              <a:rPr b="0" lang="es-ES_tradnl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U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r>
              <a:rPr b="0" lang="es-ES_tradnl" sz="1800" spc="-1" strike="noStrike">
                <a:solidFill>
                  <a:srgbClr val="545472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ROYECT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0" name="Oval 5"/>
          <p:cNvSpPr/>
          <p:nvPr/>
        </p:nvSpPr>
        <p:spPr>
          <a:xfrm>
            <a:off x="3348000" y="2060640"/>
            <a:ext cx="2286000" cy="20574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ALIZAR</a:t>
            </a:r>
            <a:r>
              <a:rPr b="1" lang="es-ES_tradnl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U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ROYECTO</a:t>
            </a:r>
            <a:r>
              <a:rPr b="1" lang="es-ES_tradnl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ATISFACTORI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6286680" y="4143240"/>
            <a:ext cx="26431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31a03"/>
                </a:solidFill>
                <a:latin typeface="Times New Roman"/>
              </a:rPr>
              <a:t>DESTACARSE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45472"/>
                </a:solidFill>
                <a:latin typeface="Times New Roman"/>
              </a:rPr>
              <a:t>Innovar en   la industria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45472"/>
                </a:solidFill>
                <a:latin typeface="Times New Roman"/>
              </a:rPr>
              <a:t>Calidad en la Investigación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45472"/>
                </a:solidFill>
                <a:latin typeface="Times New Roman"/>
              </a:rPr>
              <a:t>Aportes profesionales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45472"/>
                </a:solidFill>
                <a:latin typeface="Times New Roman"/>
              </a:rPr>
              <a:t>Valor agregado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71680" y="4143240"/>
            <a:ext cx="26031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Times New Roman"/>
              </a:rPr>
              <a:t>APROBAR  S Y TG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Times New Roman"/>
              </a:rPr>
              <a:t>Asistir a clase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Times New Roman"/>
              </a:rPr>
              <a:t>Traer temas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Times New Roman"/>
              </a:rPr>
              <a:t>Sustentar anteproyecto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Times New Roman"/>
              </a:rPr>
              <a:t>Cumplir con fechas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3214800" y="4143240"/>
            <a:ext cx="300024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31a03"/>
                </a:solidFill>
                <a:latin typeface="Times New Roman"/>
              </a:rPr>
              <a:t>APROVECHAR OPORTUNIDAD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45472"/>
                </a:solidFill>
                <a:latin typeface="Times New Roman"/>
              </a:rPr>
              <a:t>Investigar y profundizar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45472"/>
                </a:solidFill>
                <a:latin typeface="Times New Roman"/>
              </a:rPr>
              <a:t>Participar en los tallere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45472"/>
                </a:solidFill>
                <a:latin typeface="Times New Roman"/>
              </a:rPr>
              <a:t>Aplicar los conocimientos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45472"/>
                </a:solidFill>
                <a:latin typeface="Times New Roman"/>
              </a:rPr>
              <a:t>Consultar con los orientadore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94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0066"/>
                </a:solidFill>
                <a:latin typeface="Tahoma"/>
              </a:rPr>
              <a:t>LA CONCEPCION Y DEFINICION DE  LOS TEMA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45472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Tahoma"/>
              </a:rPr>
              <a:t>Se concibe la idea  y se hace una evaluación preliminar de su factibilidad  partiendo de problemas, investigaciones,  soluciones técnicas y oportunidades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698400" indent="-268560" algn="just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545472"/>
                </a:solidFill>
                <a:latin typeface="Tahoma"/>
              </a:rPr>
              <a:t>¿Es novedoso?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698400" indent="-268560" algn="just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545472"/>
                </a:solidFill>
                <a:latin typeface="Tahoma"/>
              </a:rPr>
              <a:t>¿Es útil?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698400" indent="-268560" algn="just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545472"/>
                </a:solidFill>
                <a:latin typeface="Tahoma"/>
              </a:rPr>
              <a:t>¿Responde a una necesidad?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698400" indent="-268560" algn="just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545472"/>
                </a:solidFill>
                <a:latin typeface="Tahoma"/>
              </a:rPr>
              <a:t>¿Existen recursos?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698400" indent="-268560" algn="just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545472"/>
                </a:solidFill>
                <a:latin typeface="Tahoma"/>
              </a:rPr>
              <a:t>¿Es retador?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698400" indent="-268560" algn="just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545472"/>
                </a:solidFill>
                <a:latin typeface="Tahoma"/>
              </a:rPr>
              <a:t>¿A quienes interesaría? ¿Puedo obtener soporte técnico?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698400" indent="-268560" algn="just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545472"/>
                </a:solidFill>
                <a:latin typeface="Tahoma"/>
              </a:rPr>
              <a:t>¿Es pertinente, actual e innovador?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6984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Tahoma"/>
              </a:rPr>
              <a:t>¿Cuál es el área  académica en que se desarrollará la investigación?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97" name="Imagen 1" descr=""/>
          <p:cNvPicPr/>
          <p:nvPr/>
        </p:nvPicPr>
        <p:blipFill>
          <a:blip r:embed="rId10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3T03:58:31Z</dcterms:created>
  <dc:creator>Julio César Fuentes Arismendi</dc:creator>
  <dc:description>Presentación motivacional a los estudiantes del 8o. semestre el 11 Nov. 2005</dc:description>
  <dc:language>en-US</dc:language>
  <cp:lastModifiedBy>Sala Docentes</cp:lastModifiedBy>
  <dcterms:modified xsi:type="dcterms:W3CDTF">2014-01-29T20:19:04Z</dcterms:modified>
  <cp:revision>70</cp:revision>
  <dc:subject/>
  <dc:title>EL ANTEPROYECTO DE GRADO</dc:title>
</cp:coreProperties>
</file>